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4FD21-76EF-4BA9-865A-947B23FC8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5A2C-BC46-40AA-979A-8DC90C19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9CC27-9815-4831-8993-31FFD3AD7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97168-8301-49E5-BA3F-E66FA45B9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F70F9-7A6F-46D0-A18A-90C7D0C3F3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5B085-1FB6-45FD-96BF-3BF5B83091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2D1FD-986B-4797-84BC-F114F91541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D4F07A-A404-43B2-BE03-706795951C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BE6460-37DA-4D94-B78D-09DF187CF7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9AAA4D-DA7E-4AE0-9EA1-FCA07AB754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55227-7358-45B2-801B-46FFF57511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EDD75-D91C-49FB-A86B-3AB7A25E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35085-C4A0-437C-876C-4197AC8ED1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9B050-7D0D-4C1B-B1C3-1A8F1D2976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3C1E5-742F-4BF4-9068-1E231CE809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44227-D887-438C-8491-359C187427D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581636-7851-4B8E-BD0E-44E1E5FE6F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27745-F3C1-4ED3-912A-D2F8B8B6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4B81D-BA70-4351-82D5-E80077C96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05DF-7972-46B3-96B5-6509D392F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BCC44-FFB2-4691-BB8C-9EEC732D6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7E7E-B9AD-4679-826D-B566B3B5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59B0-CBAD-43F2-A8B9-BF142C3A9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F79AC-B045-417B-826E-9CF416698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C90F-BF51-40FE-84DA-7316C462E6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BA38-A37A-458B-8136-64F8FC43FDE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Othello</a:t>
            </a:r>
            <a:endParaRPr b="0" lang="en-US" sz="7200" spc="-1" strike="noStrike">
              <a:solidFill>
                <a:srgbClr val="ffffff"/>
              </a:solidFill>
              <a:latin typeface="Tahoma"/>
            </a:endParaRPr>
          </a:p>
        </p:txBody>
      </p:sp>
      <p:sp>
        <p:nvSpPr>
          <p:cNvPr id="84" name="PlaceHolder 2"/>
          <p:cNvSpPr>
            <a:spLocks noGrp="1"/>
          </p:cNvSpPr>
          <p:nvPr>
            <p:ph type="subTitle"/>
          </p:nvPr>
        </p:nvSpPr>
        <p:spPr>
          <a:xfrm>
            <a:off x="1447920" y="51055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By William Shakespeare</a:t>
            </a:r>
            <a:endParaRPr b="0" lang="en-US" sz="3200" spc="-1" strike="noStrike">
              <a:solidFill>
                <a:srgbClr val="ffffff"/>
              </a:solidFill>
              <a:latin typeface="Tahoma"/>
            </a:endParaRPr>
          </a:p>
        </p:txBody>
      </p:sp>
      <p:pic>
        <p:nvPicPr>
          <p:cNvPr id="85" name="Picture 4" descr="othello pic"/>
          <p:cNvPicPr/>
          <p:nvPr/>
        </p:nvPicPr>
        <p:blipFill>
          <a:blip r:embed="rId1"/>
          <a:stretch/>
        </p:blipFill>
        <p:spPr>
          <a:xfrm>
            <a:off x="3200400" y="2286000"/>
            <a:ext cx="289548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V</a:t>
            </a:r>
            <a:endParaRPr b="0" lang="en-US" sz="4400" spc="-1" strike="noStrike">
              <a:solidFill>
                <a:srgbClr val="ffffff"/>
              </a:solidFill>
              <a:latin typeface="Tahoma"/>
            </a:endParaRPr>
          </a:p>
        </p:txBody>
      </p:sp>
      <p:sp>
        <p:nvSpPr>
          <p:cNvPr id="107" name="PlaceHolder 2"/>
          <p:cNvSpPr>
            <a:spLocks noGrp="1"/>
          </p:cNvSpPr>
          <p:nvPr>
            <p:ph/>
          </p:nvPr>
        </p:nvSpPr>
        <p:spPr>
          <a:xfrm>
            <a:off x="380880" y="1295280"/>
            <a:ext cx="8229600" cy="4114800"/>
          </a:xfrm>
          <a:prstGeom prst="rect">
            <a:avLst/>
          </a:prstGeom>
          <a:noFill/>
          <a:ln w="0">
            <a:noFill/>
          </a:ln>
        </p:spPr>
        <p:txBody>
          <a:bodyPr anchor="t">
            <a:normAutofit fontScale="85000"/>
          </a:bodyPr>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Act Five: </a:t>
            </a:r>
            <a:r>
              <a:rPr b="0" lang="en-US" sz="2000" spc="-1" strike="noStrike">
                <a:solidFill>
                  <a:srgbClr val="000000"/>
                </a:solidFill>
                <a:latin typeface="Rockwell"/>
              </a:rPr>
              <a:t>Iago has an attempt made on Cassio’s life, which is unsuccessful.</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Othello strangles Desdemona in her bed. When Emilia discovers the crime, she</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alls the Moor a villain and at first refuses to believe that Iago has so evilly</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manipulated Othello. However, Iago's appearance and subsequent answers lead</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Emilia to confront the fact that her husband is responsible for this tragedy. When</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Iago cannot keep Emilia from telling the truth about the handkerchief, he stabs</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her and attempts to escape; not only is he captured, but evidence is found that</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oroughly implicates Iago as the treacherous villain that he is. Faced with the</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orrow of having murdered his beloved wife, Othello stabs himself and dies</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beside Desdemon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t’s read Act V, pages 247-293</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cene 1--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  What happens to Cassio?  Roderi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  What role does Iago play in the stabbings?</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cene 2--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  What happens to Desdemona?  What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does she tell Othell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  What does Desdemona tell Emilia about Othello?  Why?</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  What does Othello reveal to Emil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  How does Emilia react towards Ia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7.  What does Emilia reveal to Othell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  What does Othello try to do to Ia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  What does Iago do to Emil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0. What does Othello do to Ia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1. What does Othello find ou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2. What did Othello do at the end of scene 2?</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chose a song called “Jealousy” by Queen.  Which character(s) does this song relate t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youtube.com/watch?v=5UCjpf5ILWI</a:t>
            </a:r>
            <a:endParaRPr b="0" lang="en-US" sz="1400" spc="-1" strike="noStrike">
              <a:solidFill>
                <a:srgbClr val="ffffff"/>
              </a:solidFill>
              <a:latin typeface="Tahoma"/>
            </a:endParaRPr>
          </a:p>
        </p:txBody>
      </p:sp>
      <p:sp>
        <p:nvSpPr>
          <p:cNvPr id="110" name="TextBox 1"/>
          <p:cNvSpPr/>
          <p:nvPr/>
        </p:nvSpPr>
        <p:spPr>
          <a:xfrm>
            <a:off x="1490760" y="6172200"/>
            <a:ext cx="6624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nother song I chose was “Suspicious Minds” by Elvis Presly.  Which character(s) does this </a:t>
            </a:r>
            <a:endParaRPr b="0" lang="en-US" sz="12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ong relate to?http://www.youtube.com/watch?v=SBmAPYkPeYU </a:t>
            </a:r>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289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0000"/>
                </a:solidFill>
                <a:latin typeface="Tahoma"/>
              </a:rPr>
              <a:t>Brief Synopsis</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9" name="Text Box 5"/>
          <p:cNvSpPr/>
          <p:nvPr/>
        </p:nvSpPr>
        <p:spPr>
          <a:xfrm>
            <a:off x="304920" y="923760"/>
            <a:ext cx="88390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 One: Othello</a:t>
            </a:r>
            <a:r>
              <a:rPr b="0" lang="en-US" sz="2400" spc="-1" strike="noStrike">
                <a:solidFill>
                  <a:srgbClr val="000000"/>
                </a:solidFill>
                <a:latin typeface="Tahoma"/>
              </a:rPr>
              <a:t>, a Moorish general of Venice, has promoted </a:t>
            </a:r>
            <a:r>
              <a:rPr b="1" lang="en-US" sz="2400" spc="-1" strike="noStrike">
                <a:solidFill>
                  <a:srgbClr val="000000"/>
                </a:solidFill>
                <a:latin typeface="Tahoma"/>
              </a:rPr>
              <a:t>Cassio </a:t>
            </a:r>
            <a:r>
              <a:rPr b="0" lang="en-US" sz="2400" spc="-1" strike="noStrike">
                <a:solidFill>
                  <a:srgbClr val="000000"/>
                </a:solidFill>
                <a:latin typeface="Tahoma"/>
              </a:rPr>
              <a:t>as his lieutenant; </a:t>
            </a:r>
            <a:r>
              <a:rPr b="1" lang="en-US" sz="2400" spc="-1" strike="noStrike">
                <a:solidFill>
                  <a:srgbClr val="000000"/>
                </a:solidFill>
                <a:latin typeface="Tahoma"/>
              </a:rPr>
              <a:t>Iago</a:t>
            </a:r>
            <a:r>
              <a:rPr b="0" lang="en-US" sz="2400" spc="-1" strike="noStrike">
                <a:solidFill>
                  <a:srgbClr val="000000"/>
                </a:solidFill>
                <a:latin typeface="Tahoma"/>
              </a:rPr>
              <a:t>, who was hoping for the promotion himself, makes plots against both Cassio and Othello to exact revenge. Othello has secretly married </a:t>
            </a:r>
            <a:r>
              <a:rPr b="1" lang="en-US" sz="2400" spc="-1" strike="noStrike">
                <a:solidFill>
                  <a:srgbClr val="000000"/>
                </a:solidFill>
                <a:latin typeface="Tahoma"/>
              </a:rPr>
              <a:t>Desdemona</a:t>
            </a:r>
            <a:r>
              <a:rPr b="0" lang="en-US" sz="2400" spc="-1" strike="noStrike">
                <a:solidFill>
                  <a:srgbClr val="000000"/>
                </a:solidFill>
                <a:latin typeface="Tahoma"/>
              </a:rPr>
              <a:t>, the daughter of Venetian senator </a:t>
            </a:r>
            <a:r>
              <a:rPr b="1" lang="en-US" sz="2400" spc="-1" strike="noStrike">
                <a:solidFill>
                  <a:srgbClr val="000000"/>
                </a:solidFill>
                <a:latin typeface="Tahoma"/>
              </a:rPr>
              <a:t>Brabantio</a:t>
            </a:r>
            <a:r>
              <a:rPr b="0" lang="en-US" sz="2400" spc="-1" strike="noStrike">
                <a:solidFill>
                  <a:srgbClr val="000000"/>
                </a:solidFill>
                <a:latin typeface="Tahoma"/>
              </a:rPr>
              <a:t>, and Iago determines to use Desdemona as the means of his revenge. Iago uses the fact that Othello is black and that Desdemona is white to enrage Brabantio, who appeals to the </a:t>
            </a:r>
            <a:r>
              <a:rPr b="1" lang="en-US" sz="2400" spc="-1" strike="noStrike">
                <a:solidFill>
                  <a:srgbClr val="000000"/>
                </a:solidFill>
                <a:latin typeface="Tahoma"/>
              </a:rPr>
              <a:t>Duke of Venice </a:t>
            </a:r>
            <a:r>
              <a:rPr b="0" lang="en-US" sz="2400" spc="-1" strike="noStrike">
                <a:solidFill>
                  <a:srgbClr val="000000"/>
                </a:solidFill>
                <a:latin typeface="Tahoma"/>
              </a:rPr>
              <a:t>to annul the marriage on the grounds that Othello used magic to seduce Desdemona. The Duke weighs the evidence and determines that Othello used only the magic of words and that Desdemona and Othello are truly in love. However, Othello is needed on the island of Cyprus to fight for Venice in a war against the Turks and is sent there by the Duke. Iago escorts Desdemona there to meet him, taking along his own wife, </a:t>
            </a:r>
            <a:r>
              <a:rPr b="1" lang="en-US" sz="2400" spc="-1" strike="noStrike">
                <a:solidFill>
                  <a:srgbClr val="000000"/>
                </a:solidFill>
                <a:latin typeface="Tahoma"/>
              </a:rPr>
              <a:t>Emilia</a:t>
            </a:r>
            <a:r>
              <a:rPr b="0" lang="en-US" sz="2400" spc="-1" strike="noStrike">
                <a:solidFill>
                  <a:srgbClr val="000000"/>
                </a:solidFill>
                <a:latin typeface="Tahoma"/>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Act I, pages 25-75.</a:t>
            </a:r>
            <a:br>
              <a:rPr sz="4000"/>
            </a:br>
            <a:endParaRPr b="0" lang="en-US" sz="4000" spc="-1" strike="noStrike">
              <a:solidFill>
                <a:srgbClr val="ffffff"/>
              </a:solidFill>
              <a:latin typeface="Tahoma"/>
            </a:endParaRPr>
          </a:p>
        </p:txBody>
      </p:sp>
      <p:sp>
        <p:nvSpPr>
          <p:cNvPr id="91" name="Text Box 5"/>
          <p:cNvSpPr/>
          <p:nvPr/>
        </p:nvSpPr>
        <p:spPr>
          <a:xfrm>
            <a:off x="822240" y="26226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2" name="Text Box 7"/>
          <p:cNvSpPr/>
          <p:nvPr/>
        </p:nvSpPr>
        <p:spPr>
          <a:xfrm>
            <a:off x="838080" y="1295280"/>
            <a:ext cx="184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ene</a:t>
            </a:r>
            <a:endParaRPr b="0" lang="en-US" sz="1800" spc="-1" strike="noStrike">
              <a:solidFill>
                <a:srgbClr val="ffffff"/>
              </a:solidFill>
              <a:latin typeface="Arial Black"/>
            </a:endParaRPr>
          </a:p>
        </p:txBody>
      </p:sp>
      <p:sp>
        <p:nvSpPr>
          <p:cNvPr id="93" name="Text Box 8"/>
          <p:cNvSpPr/>
          <p:nvPr/>
        </p:nvSpPr>
        <p:spPr>
          <a:xfrm>
            <a:off x="-560160" y="533520"/>
            <a:ext cx="10129680" cy="7062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ene 1—</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opening scene, why is Roderigo angry at Iag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is Othello described by Iago and Brabanti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does Iago feel about Othello?  Why?</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Iago planning to do?  Why?</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does Brabantio feel about Othello’s and Desdemona’s elopement?</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ene 2—</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does Iago act towards Othello to his face?</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does Othello have to go?  Why?</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Brabantio accuse Othello of doing to win Desdemona’s hear?</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ene 3—</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Othello tell Brabantio and the Duke about how he won Desdemona’s</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ve?  What does Desdemona say?  What does she ask the Duke?</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Desdemona is allowed to go meet Othello, Othello asks that Iago take her.  </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ow does Othello feel about Iag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Roderigo again professes his love for Desdemona, what does Iago suggest </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e do?  </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Iago’s soliloquy at the end of Scene 3, what does Iago reveal?</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we read through the play, start thinking about songs/lyrics that could go with the </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y.  An example I chose was “Jesse’s Girl”—which character could you picture singing</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Who would they sing it to?</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     http://www.youtube.com/watch?v=u2T7wKdQsT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II</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a:rPr>
              <a:t>Act Two: </a:t>
            </a:r>
            <a:r>
              <a:rPr b="0" lang="en-US" sz="2800" spc="-1" strike="noStrike">
                <a:solidFill>
                  <a:srgbClr val="000000"/>
                </a:solidFill>
                <a:latin typeface="Rockwell"/>
              </a:rPr>
              <a:t>When they arrived in Cyprus, Iago sets his plot into motion. He determines to convince Othello that Desdemona is cheating on him with Cassio.</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s the first step in his plan, he tricks Cassio into getting drunk. Cassio is demoted for disorderly conduct and Iago is promoted to lieutenant. Iago convinces Cassio to visit Desdemona, saying that an appeal to her might persuade Othello to reinstate hi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492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t’s read Act II, pages 77-129</a:t>
            </a:r>
            <a:endParaRPr b="0" lang="en-US" sz="4400" spc="-1" strike="noStrike">
              <a:solidFill>
                <a:srgbClr val="ffffff"/>
              </a:solidFill>
              <a:latin typeface="Tahoma"/>
            </a:endParaRPr>
          </a:p>
        </p:txBody>
      </p:sp>
      <p:sp>
        <p:nvSpPr>
          <p:cNvPr id="97" name="PlaceHolder 2"/>
          <p:cNvSpPr>
            <a:spLocks noGrp="1"/>
          </p:cNvSpPr>
          <p:nvPr>
            <p:ph/>
          </p:nvPr>
        </p:nvSpPr>
        <p:spPr>
          <a:xfrm>
            <a:off x="0" y="685800"/>
            <a:ext cx="9144000" cy="4648320"/>
          </a:xfrm>
          <a:prstGeom prst="rect">
            <a:avLst/>
          </a:prstGeom>
          <a:noFill/>
          <a:ln w="0">
            <a:noFill/>
          </a:ln>
        </p:spPr>
        <p:txBody>
          <a:bodyPr anchor="t">
            <a:normAutofit fontScale="87000"/>
          </a:bodyPr>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ene 1—</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1.  Why is the war over?</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2.  How does Cassio describe Desdemona? What does Cassio do to Emilia to infuriate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Iago?</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3.  How does Iago feel about women?</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4.  Why is Iago so happy when Cassio gives attention to Desdemona?  What does he reveal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about his plans?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5.  How do Othello and Desdemona react when they see one another?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6.  What does Iago tell Roderigo about Cassio?  What is Iago planning? Why?</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7.  What does Iago reveal in his soliloquy at the end of Scene 1?</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ene 2—</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1.  What does the Herald announce?</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ene 3—</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1.  How does Othello feel about Iago?</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2.  What does Iago plan to do?  Is he successful?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3.  What happened to Cassio?  How does Cassio feel?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4.  What does Iago suggest Cassio do to be reinstated?  Why?</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5.  What 2 things does Iago reveal in his soliloquy at the end of Scene 3?</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III</a:t>
            </a:r>
            <a:endParaRPr b="0" lang="en-US" sz="4400" spc="-1" strike="noStrike">
              <a:solidFill>
                <a:srgbClr val="ffffff"/>
              </a:solidFill>
              <a:latin typeface="Tahoma"/>
            </a:endParaRPr>
          </a:p>
        </p:txBody>
      </p:sp>
      <p:sp>
        <p:nvSpPr>
          <p:cNvPr id="99" name="PlaceHolder 2"/>
          <p:cNvSpPr>
            <a:spLocks noGrp="1"/>
          </p:cNvSpPr>
          <p:nvPr>
            <p:ph/>
          </p:nvPr>
        </p:nvSpPr>
        <p:spPr>
          <a:xfrm>
            <a:off x="380880" y="914400"/>
            <a:ext cx="8229600" cy="4114800"/>
          </a:xfrm>
          <a:prstGeom prst="rect">
            <a:avLst/>
          </a:prstGeom>
          <a:noFill/>
          <a:ln w="0">
            <a:noFill/>
          </a:ln>
        </p:spPr>
        <p:txBody>
          <a:bodyPr anchor="t">
            <a:normAutofit fontScale="90000"/>
          </a:bodyPr>
          <a:p>
            <a:pPr marL="308520" indent="-30852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ct Three: </a:t>
            </a:r>
            <a:r>
              <a:rPr b="0" lang="en-US" sz="2400" spc="-1" strike="noStrike">
                <a:solidFill>
                  <a:srgbClr val="000000"/>
                </a:solidFill>
                <a:latin typeface="Arial Black"/>
              </a:rPr>
              <a:t>Iago goes to Othello so that he can lead him to where Desdemona  and Cassio are talking. As Iago and Othello view the scene, Iago plants seeds of doubt and jealousy in Othello's mind concerning Desdemona's fidelity. Iago suggests to Othello that Cassio and Desdemona are having an affair. Later, fortune literally drops Desdemona's handkerchief, a special and sentimental gift to her from Othello, into Emilia’s hand; who gives the handkerchief to her husband. Iago plants the handkerchief in Cassio's room, and then tells Othello that he saw Cassio with it. When Othello asks Desdemona about the handkerchief, she tells him that it was lost (which is the truth as she knows it).</a:t>
            </a:r>
            <a:endParaRPr b="0" lang="en-US" sz="2400" spc="-1" strike="noStrike">
              <a:solidFill>
                <a:srgbClr val="ffffff"/>
              </a:solidFill>
              <a:latin typeface="Tahoma"/>
            </a:endParaRPr>
          </a:p>
          <a:p>
            <a:pPr marL="308520" indent="-30852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e tells her the exotic history of the handkerchief and the curse laid upon anyone who loses i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Act III, pages 131-191</a:t>
            </a:r>
            <a:endParaRPr b="0" lang="en-US" sz="4000" spc="-1" strike="noStrike">
              <a:solidFill>
                <a:srgbClr val="ffffff"/>
              </a:solidFill>
              <a:latin typeface="Tahoma"/>
            </a:endParaRPr>
          </a:p>
        </p:txBody>
      </p:sp>
      <p:sp>
        <p:nvSpPr>
          <p:cNvPr id="101" name="PlaceHolder 2"/>
          <p:cNvSpPr>
            <a:spLocks noGrp="1"/>
          </p:cNvSpPr>
          <p:nvPr>
            <p:ph/>
          </p:nvPr>
        </p:nvSpPr>
        <p:spPr>
          <a:xfrm>
            <a:off x="380880" y="990720"/>
            <a:ext cx="8229600" cy="4114800"/>
          </a:xfrm>
          <a:prstGeom prst="rect">
            <a:avLst/>
          </a:prstGeom>
          <a:noFill/>
          <a:ln w="0">
            <a:noFill/>
          </a:ln>
        </p:spPr>
        <p:txBody>
          <a:bodyPr anchor="t">
            <a:normAutofit fontScale="79000"/>
          </a:bodyPr>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cene 1—</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  Why does Cassio want to talk to Desdemona?</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2.  What is Iagp planning?</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cene 3—</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3.  How does Desdemona react to Cassio’s pleas?</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4.  Who is watching Desdemona talk to Cassio?  How do Othello and Iago react?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  When Othello and Desdemona are alone, why does Othello get angrier and angrier?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6.  When Iago and Othello are alone, what does Iago tell Othello to do?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7.  When Othello says he has a headache, what does Desdemona do?  How does Othello react?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8.  Who picks up the handkerchief?  What does she do with i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9.  What does Iago say to Othello?  How does Othello reac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0. What does Iago say about Cassio’s dream?  How does Othello reac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1.  What does Iago say about the handkerchief?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2.  What is the new plan for Cassio and Desdemona (by Othello and Iago)?</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3.  At the end of Scene 3, did Iago get what he wanted?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cene 4—</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4.  What does Desdemona keep nagging Othello abou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5.  What does Othello ask Desdemona for?  What is the story behind i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6.  What is the conversation like between Desdemona and Othello?</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7.  What is Iago’s next plan?  How does he carry it ou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8.  Who gets the handkerchief?  How?</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nother song I chose is “Come and Get Your Love”.  Which character could you picture singing this?  To whom?:http://www.youtube.com/watch?v=kctlBvsaFu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IV</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ct Four: </a:t>
            </a:r>
            <a:r>
              <a:rPr b="0" lang="en-US" sz="2400" spc="-1" strike="noStrike">
                <a:solidFill>
                  <a:srgbClr val="000000"/>
                </a:solidFill>
                <a:latin typeface="Arial Black"/>
              </a:rPr>
              <a:t>Cassio, meanwhile, has given the handkerchief to Bianca, a girl he has been dating. Iago manipulates a conversation with Cassio about Bianca to make it appear to Othello—who is eavesdropping at the urging of Iago—that Cassio is talking about Desdemona. Othello’s smoldering rage now beginning to bubble over, Othello tells Iago to kill Cassio and then angrily confronts</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sdemona. In spite of Desdemona's protests of innocence (backed up by Iago's wife, Emilia), Othello is now convinced of her infidelity with Cass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Act IV—pages 193-245</a:t>
            </a:r>
            <a:endParaRPr b="0" lang="en-US" sz="4000" spc="-1" strike="noStrike">
              <a:solidFill>
                <a:srgbClr val="ffffff"/>
              </a:solidFill>
              <a:latin typeface="Tahoma"/>
            </a:endParaRPr>
          </a:p>
        </p:txBody>
      </p:sp>
      <p:sp>
        <p:nvSpPr>
          <p:cNvPr id="105" name="PlaceHolder 2"/>
          <p:cNvSpPr>
            <a:spLocks noGrp="1"/>
          </p:cNvSpPr>
          <p:nvPr>
            <p:ph/>
          </p:nvPr>
        </p:nvSpPr>
        <p:spPr>
          <a:xfrm>
            <a:off x="457200" y="1447920"/>
            <a:ext cx="8229600" cy="4114800"/>
          </a:xfrm>
          <a:prstGeom prst="rect">
            <a:avLst/>
          </a:prstGeom>
          <a:noFill/>
          <a:ln w="0">
            <a:noFill/>
          </a:ln>
        </p:spPr>
        <p:txBody>
          <a:bodyPr anchor="t">
            <a:normAutofit fontScale="77000"/>
          </a:bodyPr>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cene 1--</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  How does Iago further his plot?  How does Othello reac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2.  What does Othello ask Iago about Cassio?  Desdemona?</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3.  How does Iago say Othello should kill Desdemona?</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What does Othello do to Desdemona after he hears her say she loves Cassio?</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4.  What does Lodavico say about Othello’s behavior?</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cene 2—</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5.  What does Othello grill Emilia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6.  What do Othello and Desdemona talk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7.  What does Emilia say about the person who put these ideas into Othello’s head?</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8.  What does Desdemona ask Iago to do?</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9.  What do Roderigo and Iago talk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cene 3—</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0. What do Desdemona and Emilia talk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Why does Desdemona sing the “willow” song?</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http://www.youtube.com/watch?v=4mlOCcp-a7s</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2:09:20Z</dcterms:created>
  <dc:creator>bruce conti</dc:creator>
  <dc:description/>
  <dc:language>en-US</dc:language>
  <cp:lastModifiedBy>Suzanne Conti</cp:lastModifiedBy>
  <dcterms:modified xsi:type="dcterms:W3CDTF">2010-10-03T03:56:59Z</dcterms:modified>
  <cp:revision>10</cp:revision>
  <dc:subject/>
  <dc:title>Othello</dc:title>
</cp:coreProperties>
</file>